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3F8-C029-4888-8B20-B940E786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41C-7150-4A9D-8D63-E0AE2B3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87D8B-825E-46DD-8613-E2BF339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1458-A510-4D02-B245-4FA993B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79B91-8426-4006-B027-EEB4E03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5CB5D-1433-4BDC-9467-A69D60E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3108-3E7C-444C-9770-31FD57F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07213-5BD0-451B-9E40-E0F1A79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1BCDD-E0CB-45B7-B08C-B22601D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B2CC9-F8EF-407C-BE5A-0DBA4368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B9D5B-0CD0-4162-9B7F-E3A41850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D9558-9518-4C91-9602-3A3E4997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0A8-E031-46A9-947B-6C0B078B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89C20-0060-492F-917B-86F9F62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869F-F453-4E02-96F4-3E579CBA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645C9-A828-4A9F-8FEF-43E00722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05501-49CB-4423-9FC1-DBC059D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C3A86-22E1-4571-B693-0200E53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A8A69-9331-4A4E-A62F-EC7EF0E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F2B95-BEED-43B9-BEF1-B678C16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50A93-CC5E-4D41-AC21-2FEA11B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A24F2-21C3-4293-A933-9B6588F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4A050-A948-4E5B-BF93-8F73805C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8D0-1B16-45C4-95AD-27A993ED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182CE-48A6-4DB6-95C2-4C8B0E80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D7FC-E503-4D14-8A3B-A5BA045A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99FA-425B-4050-88F7-1B2606C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83A31-AFE8-49CD-84EE-661B2092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FAA9-83B5-4D35-9B0C-E85CD95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77017-BCE6-409F-BD6D-BED3556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5EF2-A0CA-45B2-8E8D-80062963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90DD0-D0D2-4762-A2DF-EEF3608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CD106-EA2B-499A-A78B-298391E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9E65B-9541-4598-947D-ABA4455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D96B-62D0-4349-B58A-4D3A9F7E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E6A1E-BF66-4058-9CD7-1C7D3DB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7853A-7EAD-4DB9-A60E-1E7D4221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78A08-8288-42E6-989B-0D92FD1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D70A2-7FA3-4E3E-89B2-DB29CEA9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337DB-D43A-43FC-AB89-E65FAA5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45F4D-E375-4AD8-AFC5-D44E324F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ED26C-EE2A-47D4-A175-DFABFFB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B1177-F9EB-41E9-84FD-B9A155C0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69B47-BB73-489E-B275-360113B2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292F3-9CBF-44EE-95C3-4D9027D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538-8B7E-4D80-81DB-6AF481D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42DA2-D1AF-4D10-8B1C-CD016F0D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7BCE-9B4A-4032-88F1-431BBF6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1B0DB-B09C-4313-942B-3E3F2BE1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2D6E0-107C-45E8-AA23-4BE85A6E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E4665-B8C9-4B4A-91D4-9A9B0BD7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D188C-AD96-4BC8-AA36-65FAB2A7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87394-025B-4FA8-B2B6-B6031DA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BE797-D2C4-4C51-8624-62FDDB40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00DDA-45C8-4A24-95A5-707AAF2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F738F-55DB-4F27-AF5F-AE1B0B9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9B16-74ED-41D6-AFDE-6D7139F9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491AA-B601-4B12-8A30-44DEEE2F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A8854-014F-4E4B-BA85-07FA4EB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00CC9-1FDC-45F8-B6C3-DA0935D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336A5-DF21-4CFE-902F-6F0325E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C9EDA-DFAB-40BF-99E1-D6751803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26A54-DA3A-4B02-988A-AEB1D02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E6E15-72EB-40F4-A8B6-5DA2B797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D5B-DD5E-4705-B722-7357C92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F194-4915-4F77-B6DB-CC189AB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7D97-B86D-4942-8926-76CDAFC2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67ED-0444-4EC3-98DF-617D5F3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D76-BCD3-4641-9448-A025D01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8F4-8F6E-4C7D-A10A-839C74C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0EB-2964-4CB8-A378-36775A6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3B8-F7F4-4FBF-AE1A-EE82D77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78E0-5FDD-41CC-9F5F-8890C76C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66F7-25CB-4102-9531-0824E723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F4F9-4E0F-4A64-B34A-6DC5125C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0F8D-EAC4-4E27-8F06-8EBCE07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1CF0-6F8A-4F19-BD63-3F53E8B9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9299-C61F-486A-9539-13D7871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0189-7BC5-4369-8913-7D55F44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96B-7EF7-4E70-B277-772C3FF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32AA-39B5-40C7-960F-30E7B8A7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DEFA-2D75-4717-B27E-4231658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49A0-C896-41AE-88E7-BDBAE13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5FCD-C968-4E4E-8A5B-C760E93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B853-4F9D-49FA-BAF5-2C707AAA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1E5A-8616-47FF-ABFB-EA0D83C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6220-2E44-4CBD-957A-ACE1852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461A4-2CAC-4803-BAFE-55A8A1E7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444F-4D2E-419C-A730-61CB777D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C571-F840-483E-B1B6-51DAE51B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64D-0101-4EAA-84BA-137A5B9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C031-8F9F-45CD-A960-163B3A71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FEEA-4249-461B-9CF3-3C235228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F9B9-C54E-4464-95DA-E8D85087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0024-6277-4B64-85CA-8621F56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D946-0081-485F-9120-F24ABE09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03BB-C4FF-4890-A7EF-8390EC3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E610-21C8-494C-A3B2-121225A6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D324-1E77-4EC3-89D2-43A76D81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4E47-97B8-4D04-95B7-17A0DA88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850B-0DFF-415D-94F3-F66D8D3F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BB1-E97A-4A5C-8EED-07FEB1F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38D6-217B-4625-96E0-21392B5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AC2E-52F3-4AD3-930B-5F9A072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1466-FD10-47CA-9B8A-55FAB3F7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E45D-9479-451F-972C-F7873877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03E0-9716-4E70-8E4D-0FB50776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5346-A89D-43D3-894A-A11E6D8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72E39-B7BA-4927-8FB5-C4A2224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57D2-ED69-4871-A1CB-99B7F68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2417-C491-4D62-BE05-C49A8258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192B-3A61-45CC-A97C-FC62E153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BAF-9731-4FA6-8632-3F9F5A1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C9E4-4B66-4314-8837-A9643FE5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F760-669C-4507-86A1-752E8E9B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8555-66C7-438B-B13E-50C824D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6B6D-6DDC-4BD7-8E59-42E4421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4182-DD55-4CE6-88AF-18DF91A7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39E23-E639-4394-8F90-FBF3C455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C058-A7FE-45B5-ABB1-F3ADBFF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B67C3-B4B6-494D-86E9-AB64A80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F075-27D6-4C9F-9869-DFC212A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C5929-5F19-41AB-8E6D-442AC93B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1F2-1951-4B45-B93A-BC7A402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1152-DAE9-498E-B00E-DD2F09C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5618-5EDD-4FE8-8F6E-2F21AAF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187B-F1C3-4DA3-A6F4-45CEF01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7F19-6959-4493-8BD2-E1FA3756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C4CD-ED8F-4B12-99A1-C92FF6B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D4EB-9052-4BEC-9403-86A46421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9F2B-AEC1-45EB-BE74-8631C6F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6E5B-8E20-457A-9189-18A2609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543F1-25C2-4012-B43E-FCF303D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F70E-E82E-49CA-A197-27AC5D8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AD1-5418-4676-8F78-B6FED8C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2751-616F-448E-872B-DAA3BEC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A777-F56C-4FDA-A5EF-3A4199F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8D56-493A-4CC9-BC89-BCBAC4F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2C161-82BA-40F7-BDD1-2113128C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A284-884F-4596-86A8-B2C83D87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68E3-4B9D-4524-9029-B387F476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E421-ED59-4A3A-9A1D-17F81615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04C7-4986-48BF-AFE4-16BA4F5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060FB-ED92-4FEB-895F-8A4F01C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389A-9379-4139-AF86-AB127FE2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BB8-3D21-405F-BCF2-18B0F6A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B6F2-2B21-492E-809F-08CFFA1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E223-9F0B-4A28-A8A6-6F5DAEE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3313-332A-402B-B984-3DA44ED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EF21-E35F-4215-AC2E-6863BE7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A3A6-3415-4D13-AB21-B3CCD44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9AA78-B548-403B-80B7-F6544FCD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F250-B922-4205-AE77-358FAA5B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6F2CE-4F89-4DE3-8C16-2666BDD9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3FF33-838B-4FBE-B1F1-D3DFD98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658D5-E120-4959-9863-82AD5A1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265F-D02A-44F2-9034-CA97D529ABB1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C85-DBD6-4C9A-8552-7692CAA109B7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289-9B7F-4DD0-B8A0-0D5D9D61660E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1FC-74C8-412E-9A93-62F0AB9BA320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94A-7641-4B01-B269-4B6E16799A85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170E-E418-4E78-8C87-5272462E50DA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A53-97F9-4664-9339-AE96E7012B09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FD7C-0EC5-4C69-B17D-D5E051B2D813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FD6E-D5CA-4C58-B0DF-5021245956AC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0BF8-1BED-4724-AEA9-244F656DCFA1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4B1-EB78-4C44-B793-3642A0A61338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C3BA-5FB1-4B19-ABA9-C0AEAC188E39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5BF1-8EDA-4DC4-B442-CCCE219EC707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4FE-5EA6-4FC3-A0AC-5313BE9E89F4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2116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965-15CE-4FA1-BE51-B5D57AF9D761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118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118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B12-83CE-4053-AB83-FD1E73EA3A5A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371-3D72-4F3D-A756-6374F116B028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A7E-B2BA-4682-A7B6-7247AEAD6D21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0DA2-BE5E-45BA-8A7D-2E5EDE68FBBC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5F8F-116E-4630-BAC8-CF0CAB505054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81D-03AB-4776-9548-69A964A545A3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E32-C19E-4DB7-90A1-83E191E3A5B8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7A1-AF19-42E6-BD46-0CE8432791C8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AD5A-799E-452D-A857-51B290981F07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039-E2EB-491A-9B26-9B57BA4D7422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EE1-DA56-4934-B3C6-474612169EDB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382680" y="80316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Inventory, Jan. 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38,7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purchases from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125,4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of merchandise available for s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364,2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382680" y="202392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sales for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6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year’s gross profit percen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48.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gross profit on 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99,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382680" y="324180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sales for Jan. 1 to Jan. 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$206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gross profit on 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99,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cost of merchandise s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107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382680" y="4462560"/>
            <a:ext cx="81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of merchandise available for s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64,2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cost of merchandise s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107,2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1280"/>
                <a:tab algn="l" pos="136512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ending merchandise inven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$256,95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Rectangle 2" descr=""/>
          <p:cNvPicPr/>
          <p:nvPr/>
        </p:nvPicPr>
        <p:blipFill>
          <a:blip r:embed="rId2"/>
          <a:stretch/>
        </p:blipFill>
        <p:spPr>
          <a:xfrm>
            <a:off x="-19080" y="-60480"/>
            <a:ext cx="9175680" cy="129240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8"/>
          <p:cNvSpPr/>
          <p:nvPr/>
        </p:nvSpPr>
        <p:spPr>
          <a:xfrm>
            <a:off x="8458200" y="2479680"/>
            <a:ext cx="228600" cy="12193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9"/>
          <p:cNvSpPr/>
          <p:nvPr/>
        </p:nvSpPr>
        <p:spPr>
          <a:xfrm>
            <a:off x="8458200" y="1911240"/>
            <a:ext cx="380880" cy="30481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0"/>
          <p:cNvSpPr/>
          <p:nvPr/>
        </p:nvSpPr>
        <p:spPr>
          <a:xfrm>
            <a:off x="6477120" y="3130560"/>
            <a:ext cx="609480" cy="914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1"/>
          <p:cNvSpPr/>
          <p:nvPr/>
        </p:nvSpPr>
        <p:spPr>
          <a:xfrm>
            <a:off x="6477120" y="4384800"/>
            <a:ext cx="609480" cy="914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3, page 5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17"/>
          <p:cNvGrpSpPr/>
          <p:nvPr/>
        </p:nvGrpSpPr>
        <p:grpSpPr>
          <a:xfrm>
            <a:off x="1905120" y="5603760"/>
            <a:ext cx="5199120" cy="1254240"/>
            <a:chOff x="1905120" y="5603760"/>
            <a:chExt cx="5199120" cy="1254240"/>
          </a:xfrm>
        </p:grpSpPr>
        <p:sp>
          <p:nvSpPr>
            <p:cNvPr id="544" name="Freeform 7"/>
            <p:cNvSpPr/>
            <p:nvPr/>
          </p:nvSpPr>
          <p:spPr>
            <a:xfrm>
              <a:off x="4284720" y="5603760"/>
              <a:ext cx="2819520" cy="12542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6"/>
            <p:cNvSpPr/>
            <p:nvPr/>
          </p:nvSpPr>
          <p:spPr>
            <a:xfrm>
              <a:off x="1905120" y="5826240"/>
              <a:ext cx="2682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ab5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Ending Inventory to Income 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D:\C21 PowerPoint\Multi_Journal\art for blue\Ch22\Ch22-03a.jpg"/>
          <p:cNvPicPr/>
          <p:nvPr/>
        </p:nvPicPr>
        <p:blipFill>
          <a:blip r:embed="rId2"/>
          <a:srcRect l="26173" t="0" r="0" b="47344"/>
          <a:stretch/>
        </p:blipFill>
        <p:spPr>
          <a:xfrm>
            <a:off x="439560" y="914400"/>
            <a:ext cx="8094960" cy="5257800"/>
          </a:xfrm>
          <a:prstGeom prst="rect">
            <a:avLst/>
          </a:prstGeom>
          <a:ln w="0">
            <a:noFill/>
          </a:ln>
        </p:spPr>
      </p:pic>
      <p:pic>
        <p:nvPicPr>
          <p:cNvPr id="547" name="Rectangle 4" descr=""/>
          <p:cNvPicPr/>
          <p:nvPr/>
        </p:nvPicPr>
        <p:blipFill>
          <a:blip r:embed="rId3"/>
          <a:stretch/>
        </p:blipFill>
        <p:spPr>
          <a:xfrm>
            <a:off x="-19080" y="30240"/>
            <a:ext cx="9175680" cy="744480"/>
          </a:xfrm>
          <a:prstGeom prst="rect">
            <a:avLst/>
          </a:prstGeom>
          <a:ln w="0">
            <a:noFill/>
          </a:ln>
        </p:spPr>
      </p:pic>
      <p:sp>
        <p:nvSpPr>
          <p:cNvPr id="548" name="Freeform 6"/>
          <p:cNvSpPr/>
          <p:nvPr/>
        </p:nvSpPr>
        <p:spPr>
          <a:xfrm>
            <a:off x="4284720" y="-76320"/>
            <a:ext cx="457200" cy="46483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09T20:14:34Z</cp:lastPrinted>
  <dcterms:modified xsi:type="dcterms:W3CDTF">2011-10-30T20:58:42Z</dcterms:modified>
  <cp:revision>69</cp:revision>
  <dc:subject/>
  <dc:title>ADJUSTING ENTRY FOR SUPPLIES</dc:title>
</cp:coreProperties>
</file>